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40C6F-1B8C-4BA2-96ED-42AFAF16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65922-1B9A-4B2E-8BF9-4C8A0E5B1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04DD4C-A051-49DD-B87E-98D7C2C4DF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196810-481F-433A-8664-260F22CD78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FF1AEA-A141-4583-AA1B-5EF9EE9BC0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BE2365-A478-4A10-9F1D-0F89C51C3A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721511-F9E7-4BB2-B89E-28E05EFD8C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0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B5B517-FA2B-4D8F-A9CD-A22C563057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D6F541-2C51-471A-B83D-FDFDBCB44D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03C074-302E-482D-88C7-3E9D4ECAB7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2E240D-8E17-45A8-A677-21E9110A30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C27360D-0398-42E6-A7D5-C65537E9B83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BD6AD-7924-4580-AE87-69DA0CDCF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BD3961C-FCF4-4770-8724-FE3FE6E481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C0EC3B-A759-45AD-B073-73872F99D4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4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E94E61-7B01-413A-AF9F-43907C5247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C1B666-7190-469C-8555-46D8CE14AE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0ACA39-974D-4697-A2AD-39491C2D0D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47B270-32B8-4552-BBCE-0158BBAF2C4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B3F2FE-7E9C-4AB0-B7F0-92C5E28783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927D53-7816-4183-8D3A-BF01655617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C6B7BA-6CA7-4CE1-94A8-C67E6E2B12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6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71CC98-0D5F-42BA-82D3-110EE0DF85D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C8BC3-7781-4A36-A4FA-EBAE48433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7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7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73AAE77-43F4-4F0F-BEF6-4EED199F25C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7D2609CB-0E93-491B-A3E4-7D92B49089E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DBA2F6A-7305-42AB-AE1D-8352EFD6F7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2E2F4E4-CB36-4A86-96A4-9CA5D51356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9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9B2C048-9EC9-498A-A0CC-6CC8E7C3D8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4CAAB43-7C02-49D1-B38C-2395FF2656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FE9A8313-F0B7-4D67-A76D-676E0E7FE0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094D355-D239-4C58-B244-313291D570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0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31AC5AB-CA97-4BB5-A159-18C8FD60DA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66A6232-531C-45E6-92CB-42D3B20AE4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5B657F-F21C-48AC-973B-CCF6C0619B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975E8C7F-223F-422D-B1D1-D3DAC21D923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1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9321BE29-D2F3-44BC-B31A-79BF866072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2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B1289BDA-1C86-4D3F-9112-2452ED4508A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B68C0A-56B8-4CFC-9130-55DC924824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4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7A047F6-1DDF-4C60-800F-94AE76DCCEE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06D4537-CB1F-4B02-8E04-C0BABEB39C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A0BB40-AE27-47A5-9A31-D2824DDD397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ADC6A8-D79E-430E-874A-AB850EF261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16967F-AFE4-4E40-9119-2BDA7A226F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5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5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5636FA2-0BD6-4700-A6A8-D1A5567CBB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6"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21EBB7-4CDC-4528-A56B-CECCA3173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D63AC7-6B0E-44B3-BA70-AFE21F0B04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6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6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01D0DB-B4D8-466F-956E-C43FB555A8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C8170E-78DD-4183-A9C3-D23231C5791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9339C8-DD3E-4948-8EDD-DABC3445C6F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57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7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DBD224-CF9A-457E-B95E-56EE29F558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68"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B32BE5-BEFB-4118-9A27-6C58015CA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0"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05F8B-0D6D-491C-B4D3-D6CA633A93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1D918-B4E2-46C5-8E3F-5605296D1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D7C11-0DC0-466F-A7DB-D9129DFC0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0F68A-04A6-4982-80A2-7DDE42305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6AFA7-C905-4309-8DA9-D2A7C9303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B11A8-8293-4739-8B33-C34BCCB4F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FFCF0-A989-44DC-B57E-1A97A9005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7"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8"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078FB-1EC5-40B0-B7D6-33590C69E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1"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293F5-20D6-4141-AD73-9F0E5B3E8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9"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0"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A9DD6-A4AE-4ED9-AF65-957C60EF2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CE9BBF-BAE8-475D-A906-5A7818971F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419A27-C5B5-4275-A9B9-3BA7CC4677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2A2642-6D44-4D66-A89F-AF32AF9C5B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1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CAC8A0-6AD3-40D6-8390-5E9796724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64FCB3-EED5-403A-B5B9-CCDBCBDD6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02596-B09E-4815-9F1E-9E5E80ECF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495EAB-F0CF-446C-8268-2751E134C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DD230-2362-4BA2-AF05-EA4B3B2FD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94055D-4993-4E29-BA3A-C7197859A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BB60D2-2974-4741-853E-AEFA26ABA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1FA89B-18F6-4292-8853-259047496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BD8419-5845-412A-BAEE-63ECB8ED43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74E4CD-E46C-4762-87FF-323633CB66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EB342A-7163-4FEC-8215-8A5ED634ED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4"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9C3BE-37A6-4B8F-9978-D579925CA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6"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606EFB-7C18-48DB-9F27-ED1DC0E57D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2B0C1-166C-4450-A4F4-9966AF947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6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6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60587F-A96D-41BB-BB26-5C83CECBF7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702932-2138-4096-AFB4-F0B00BC5F9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A5E0F-23ED-43E4-8947-B6C05B90AE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FCB5E-A676-430C-8452-25BE0CBCF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7"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79"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C4B292-F00E-473C-8113-D1E69C968E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2"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3"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4E728-187A-4B44-BDB1-AF6426202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5"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6"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02C81A-BFFD-430B-AB8F-15EA0D14F5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1"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54FEEF-78EE-4830-BB93-7E2FDFB27C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3"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5"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6"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C0871B-6470-4AB5-9501-9541DD714F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574377-F35F-4E1C-B54A-3DDC6DC36F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84BF3-D5AD-4CFF-B591-5151159AF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8260FD-AB06-46A7-8C52-9AC5CB0A5A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06E206-82C0-47A1-80C4-4984FBF9B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150EF7-DB3F-4BCA-93D8-CE848C0AB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CA1ECA-C2B8-4BB0-A59C-6C003A8FB2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9EF3D-EFF6-4416-8BA9-AD8D58684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A23D3A-D5FE-49A5-AAB3-9CCD614687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9272E5-1DA0-463F-8D2E-D7099940C0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98972-F703-4A09-810C-29BC4F1062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73C071-F4B3-4F3E-B952-CD0420D9B8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D5F1C5-F3A5-4B64-B5BA-973EA82238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95378-67CC-4ECB-B891-AF6676202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4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3E8C3D-30C4-46D6-A492-CE9E3B63AD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9EAAD4-C875-44FF-87C5-FCA6D7060DA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2"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590EF9-39E1-4D57-9E3B-96B11C0ED0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4"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951A4C-B711-4C61-B359-51E001CFAC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6"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57"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C94047-1A59-4318-B60F-5C1D98C0BC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193847-34E9-4E3D-A95E-CC4FD3B9E4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D90C3B-558A-49A6-956E-46845B960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94683-EBC1-4DCB-9823-14E14C8A11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E1979-31CA-4BD0-B300-4326C385B7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6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315E8C-1D73-4B17-A7A3-7EC8ED5B8D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2"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3"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A0EB-800A-461B-9323-ED4AF964D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3"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4"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AC1F35-09B3-4D94-AFE6-00F858B37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8"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9"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D01E37-4CCA-4836-90F8-1A1ED27A8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1"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2"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3"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4"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5"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6"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421240-3170-4D4D-877A-6ACC68B4B6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F0B684-E12C-41D8-ACEE-7D5B1AA1B5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1800A5-AECF-47BA-855B-6A878462BC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7A9F83-A584-4F8D-9D8D-F44F45D70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20E605-BC77-440B-85CC-1D6B692464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7B3B2-7D2C-4356-A9DC-1BA21F7807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D07B4E-4DC3-4C3F-9DD6-B195C17BF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0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D1FDFA-42FE-4C9F-AD79-74547A30F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7"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97DD6-E2FE-47F4-A3C2-B1C3FE859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A89D6-7454-4A89-874A-D8BB07964C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1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F63B8F-F908-4A5E-982C-534DC2A96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EE5FAF-0072-4F43-AE27-6CCE58DB45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D15189-16EA-4ADA-90C9-DE93F18B06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2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F79942-8A12-41B7-843A-48AAA9B642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1F4E3E-5303-4D6A-86BC-07AE05CBDE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0"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D08CD2-72C6-4101-9AB9-11F53D272F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2"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703540-108A-45EC-B16D-A0487030A2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F78FF2-3818-4647-9A45-5CBC06A0D2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F5034A-34AF-4E57-BFB2-E9E6EF0EC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4EC4E-0887-464A-84E9-149431165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3C9E69-79A4-47BF-9EE8-BA931BC1D9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0EF24F-9421-46AE-8728-6F22A683B3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5"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F53D6D-17EA-4770-9312-C11522ABBC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57"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8"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59"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8117DC-39C7-40B0-A8F8-9080A4801E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1"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2"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3C8AD-E975-40B5-93C2-AD5664BF4F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67"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A29FBE-DCA7-4310-8DE7-9E37A6A8F4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9"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0"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1"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2"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3"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4"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76BC4A-24D8-4442-9C74-A28ACC915B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9FC26A-8DE1-4F6B-9EA6-8A601B4C5B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8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318906-B0CB-48ED-84B4-8667455FE4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9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08D999-1623-419A-B9F9-C757336CB0D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8E9A-78F0-4F29-BD2D-EFC490B69F3E}"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4" name="Rectangle 22"/>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23"/>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4"/>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5"/>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26"/>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ounded Rectangle 29"/>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ounded Rectangle 3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6"/>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9"/>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0"/>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8"/>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3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37" name="PlaceHolder 3"/>
          <p:cNvSpPr>
            <a:spLocks noGrp="1"/>
          </p:cNvSpPr>
          <p:nvPr>
            <p:ph type="dt" idx="28"/>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438" name="PlaceHolder 4"/>
          <p:cNvSpPr>
            <a:spLocks noGrp="1"/>
          </p:cNvSpPr>
          <p:nvPr>
            <p:ph type="ftr" idx="29"/>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5"/>
          <p:cNvSpPr>
            <a:spLocks noGrp="1"/>
          </p:cNvSpPr>
          <p:nvPr>
            <p:ph type="sldNum" idx="30"/>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D2404-3B31-48DD-A7BD-51CC9BFCE22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49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491" name="PlaceHolder 3"/>
          <p:cNvSpPr>
            <a:spLocks noGrp="1"/>
          </p:cNvSpPr>
          <p:nvPr>
            <p:ph type="dt" idx="3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492" name="PlaceHolder 4"/>
          <p:cNvSpPr>
            <a:spLocks noGrp="1"/>
          </p:cNvSpPr>
          <p:nvPr>
            <p:ph type="sldNum" idx="3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5F694-E890-47A7-9FB3-8475F066BF65}"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493" name="PlaceHolder 5"/>
          <p:cNvSpPr>
            <a:spLocks noGrp="1"/>
          </p:cNvSpPr>
          <p:nvPr>
            <p:ph type="ftr" idx="33"/>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54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545" name="PlaceHolder 3"/>
          <p:cNvSpPr>
            <a:spLocks noGrp="1"/>
          </p:cNvSpPr>
          <p:nvPr>
            <p:ph type="dt" idx="34"/>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546" name="PlaceHolder 4"/>
          <p:cNvSpPr>
            <a:spLocks noGrp="1"/>
          </p:cNvSpPr>
          <p:nvPr>
            <p:ph type="ftr" idx="3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PlaceHolder 5"/>
          <p:cNvSpPr>
            <a:spLocks noGrp="1"/>
          </p:cNvSpPr>
          <p:nvPr>
            <p:ph type="sldNum" idx="3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11B3-CD69-4DDC-8BD6-AEAEF6A91E82}"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1"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2" name="PlaceHolder 3"/>
          <p:cNvSpPr>
            <a:spLocks noGrp="1"/>
          </p:cNvSpPr>
          <p:nvPr>
            <p:ph type="dt" idx="4"/>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3" name="PlaceHolder 4"/>
          <p:cNvSpPr>
            <a:spLocks noGrp="1"/>
          </p:cNvSpPr>
          <p:nvPr>
            <p:ph type="ftr" idx="5"/>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5"/>
          <p:cNvSpPr>
            <a:spLocks noGrp="1"/>
          </p:cNvSpPr>
          <p:nvPr>
            <p:ph type="sldNum" idx="6"/>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F2F9-B1EB-40B5-A2BA-6CB966F943C0}" type="slidenum">
              <a:rPr b="0" lang="en-U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5"/>
          <p:cNvGrpSpPr/>
          <p:nvPr/>
        </p:nvGrpSpPr>
        <p:grpSpPr>
          <a:xfrm>
            <a:off x="-3240" y="4952880"/>
            <a:ext cx="9147240" cy="1911600"/>
            <a:chOff x="-3240" y="4952880"/>
            <a:chExt cx="9147240" cy="1911600"/>
          </a:xfrm>
        </p:grpSpPr>
        <p:sp>
          <p:nvSpPr>
            <p:cNvPr id="103" name="Freeform 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Freeform 7"/>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Freeform 10"/>
            <p:cNvGrpSpPr/>
            <p:nvPr/>
          </p:nvGrpSpPr>
          <p:grpSpPr>
            <a:xfrm>
              <a:off x="2520" y="4992120"/>
              <a:ext cx="9141480" cy="1872360"/>
              <a:chOff x="2520" y="4992120"/>
              <a:chExt cx="9141480" cy="1872360"/>
            </a:xfrm>
          </p:grpSpPr>
          <p:pic>
            <p:nvPicPr>
              <p:cNvPr id="106" name="Freeform 10" descr=""/>
              <p:cNvPicPr/>
              <p:nvPr/>
            </p:nvPicPr>
            <p:blipFill>
              <a:blip r:embed="rId2"/>
              <a:stretch/>
            </p:blipFill>
            <p:spPr>
              <a:xfrm>
                <a:off x="2520" y="4992120"/>
                <a:ext cx="9141480" cy="1872360"/>
              </a:xfrm>
              <a:prstGeom prst="rect">
                <a:avLst/>
              </a:prstGeom>
              <a:ln w="0">
                <a:noFill/>
              </a:ln>
            </p:spPr>
          </p:pic>
          <p:sp>
            <p:nvSpPr>
              <p:cNvPr id="107"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8" name="Straight Connector 11" descr=""/>
            <p:cNvPicPr/>
            <p:nvPr/>
          </p:nvPicPr>
          <p:blipFill>
            <a:blip r:embed="rId3"/>
            <a:stretch/>
          </p:blipFill>
          <p:spPr>
            <a:xfrm>
              <a:off x="-3240" y="4986000"/>
              <a:ext cx="9147240" cy="814320"/>
            </a:xfrm>
            <a:prstGeom prst="rect">
              <a:avLst/>
            </a:prstGeom>
            <a:ln w="0">
              <a:noFill/>
            </a:ln>
          </p:spPr>
        </p:pic>
      </p:grpSp>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12"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23A4-B2B3-4293-B1E2-11A4E77477F0}"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Right Triangle 13"/>
          <p:cNvGrpSpPr/>
          <p:nvPr/>
        </p:nvGrpSpPr>
        <p:grpSpPr>
          <a:xfrm>
            <a:off x="-12600" y="5784840"/>
            <a:ext cx="3414600" cy="1092240"/>
            <a:chOff x="-12600" y="5784840"/>
            <a:chExt cx="3414600" cy="1092240"/>
          </a:xfrm>
        </p:grpSpPr>
        <p:pic>
          <p:nvPicPr>
            <p:cNvPr id="153" name="Right Triangle 13" descr=""/>
            <p:cNvPicPr/>
            <p:nvPr/>
          </p:nvPicPr>
          <p:blipFill>
            <a:blip r:embed="rId3"/>
            <a:stretch/>
          </p:blipFill>
          <p:spPr>
            <a:xfrm>
              <a:off x="-12600" y="5784840"/>
              <a:ext cx="3414600" cy="1092240"/>
            </a:xfrm>
            <a:prstGeom prst="rect">
              <a:avLst/>
            </a:prstGeom>
            <a:ln w="0">
              <a:noFill/>
            </a:ln>
          </p:spPr>
        </p:pic>
        <p:sp>
          <p:nvSpPr>
            <p:cNvPr id="15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5" name="Straight Connector 14" descr=""/>
          <p:cNvPicPr/>
          <p:nvPr/>
        </p:nvPicPr>
        <p:blipFill>
          <a:blip r:embed="rId4"/>
          <a:stretch/>
        </p:blipFill>
        <p:spPr>
          <a:xfrm>
            <a:off x="-19080" y="5772240"/>
            <a:ext cx="3421080" cy="1109520"/>
          </a:xfrm>
          <a:prstGeom prst="rect">
            <a:avLst/>
          </a:prstGeom>
          <a:ln w="0">
            <a:noFill/>
          </a:ln>
        </p:spPr>
      </p:pic>
      <p:sp>
        <p:nvSpPr>
          <p:cNvPr id="156"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0"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61"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A8E32-E32B-4B48-B99F-BB321685BA9E}"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9"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1" name="Right Triangle 13"/>
          <p:cNvGrpSpPr/>
          <p:nvPr/>
        </p:nvGrpSpPr>
        <p:grpSpPr>
          <a:xfrm>
            <a:off x="-12600" y="5784840"/>
            <a:ext cx="3414600" cy="1092240"/>
            <a:chOff x="-12600" y="5784840"/>
            <a:chExt cx="3414600" cy="1092240"/>
          </a:xfrm>
        </p:grpSpPr>
        <p:pic>
          <p:nvPicPr>
            <p:cNvPr id="202" name="Right Triangle 13" descr=""/>
            <p:cNvPicPr/>
            <p:nvPr/>
          </p:nvPicPr>
          <p:blipFill>
            <a:blip r:embed="rId3"/>
            <a:stretch/>
          </p:blipFill>
          <p:spPr>
            <a:xfrm>
              <a:off x="-12600" y="5784840"/>
              <a:ext cx="3414600" cy="1092240"/>
            </a:xfrm>
            <a:prstGeom prst="rect">
              <a:avLst/>
            </a:prstGeom>
            <a:ln w="0">
              <a:noFill/>
            </a:ln>
          </p:spPr>
        </p:pic>
        <p:sp>
          <p:nvSpPr>
            <p:cNvPr id="20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4" name="Straight Connector 14" descr=""/>
          <p:cNvPicPr/>
          <p:nvPr/>
        </p:nvPicPr>
        <p:blipFill>
          <a:blip r:embed="rId4"/>
          <a:stretch/>
        </p:blipFill>
        <p:spPr>
          <a:xfrm>
            <a:off x="-19080" y="5772240"/>
            <a:ext cx="3421080" cy="110952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0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07"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08"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C4CC-4B05-41D7-A128-76D9BA6BFBC7}"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4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48"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F160-DB85-4192-B2A4-EE332FD81720}"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9" name="Right Triangle 13"/>
          <p:cNvGrpSpPr/>
          <p:nvPr/>
        </p:nvGrpSpPr>
        <p:grpSpPr>
          <a:xfrm>
            <a:off x="-12600" y="5784840"/>
            <a:ext cx="3414600" cy="1092240"/>
            <a:chOff x="-12600" y="5784840"/>
            <a:chExt cx="3414600" cy="1092240"/>
          </a:xfrm>
        </p:grpSpPr>
        <p:pic>
          <p:nvPicPr>
            <p:cNvPr id="290" name="Right Triangle 13" descr=""/>
            <p:cNvPicPr/>
            <p:nvPr/>
          </p:nvPicPr>
          <p:blipFill>
            <a:blip r:embed="rId3"/>
            <a:stretch/>
          </p:blipFill>
          <p:spPr>
            <a:xfrm>
              <a:off x="-12600" y="5784840"/>
              <a:ext cx="3414600" cy="1092240"/>
            </a:xfrm>
            <a:prstGeom prst="rect">
              <a:avLst/>
            </a:prstGeom>
            <a:ln w="0">
              <a:noFill/>
            </a:ln>
          </p:spPr>
        </p:pic>
        <p:sp>
          <p:nvSpPr>
            <p:cNvPr id="29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92" name="Straight Connector 14" descr=""/>
          <p:cNvPicPr/>
          <p:nvPr/>
        </p:nvPicPr>
        <p:blipFill>
          <a:blip r:embed="rId4"/>
          <a:stretch/>
        </p:blipFill>
        <p:spPr>
          <a:xfrm>
            <a:off x="-19080" y="5772240"/>
            <a:ext cx="3421080" cy="1109520"/>
          </a:xfrm>
          <a:prstGeom prst="rect">
            <a:avLst/>
          </a:prstGeom>
          <a:ln w="0">
            <a:noFill/>
          </a:ln>
        </p:spPr>
      </p:pic>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9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95"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96"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AB93-84B9-4AD7-A76A-6B45DFFE39D0}"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3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36"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337"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EAAEA-CC33-4DD7-B72B-D5EA19A446B6}"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Freeform 7"/>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8"/>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Right Triangle 9"/>
          <p:cNvGrpSpPr/>
          <p:nvPr/>
        </p:nvGrpSpPr>
        <p:grpSpPr>
          <a:xfrm>
            <a:off x="-12600" y="5784840"/>
            <a:ext cx="3414600" cy="1092240"/>
            <a:chOff x="-12600" y="5784840"/>
            <a:chExt cx="3414600" cy="1092240"/>
          </a:xfrm>
        </p:grpSpPr>
        <p:pic>
          <p:nvPicPr>
            <p:cNvPr id="378" name="Right Triangle 9" descr=""/>
            <p:cNvPicPr/>
            <p:nvPr/>
          </p:nvPicPr>
          <p:blipFill>
            <a:blip r:embed="rId3"/>
            <a:stretch/>
          </p:blipFill>
          <p:spPr>
            <a:xfrm>
              <a:off x="-12600" y="5784840"/>
              <a:ext cx="3414600" cy="1092240"/>
            </a:xfrm>
            <a:prstGeom prst="rect">
              <a:avLst/>
            </a:prstGeom>
            <a:ln w="0">
              <a:noFill/>
            </a:ln>
          </p:spPr>
        </p:pic>
        <p:sp>
          <p:nvSpPr>
            <p:cNvPr id="37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0" name="Straight Connector 10" descr=""/>
          <p:cNvPicPr/>
          <p:nvPr/>
        </p:nvPicPr>
        <p:blipFill>
          <a:blip r:embed="rId4"/>
          <a:stretch/>
        </p:blipFill>
        <p:spPr>
          <a:xfrm>
            <a:off x="-19080" y="5772240"/>
            <a:ext cx="3421080" cy="1109520"/>
          </a:xfrm>
          <a:prstGeom prst="rect">
            <a:avLst/>
          </a:prstGeom>
          <a:ln w="0">
            <a:noFill/>
          </a:ln>
        </p:spPr>
      </p:pic>
      <p:sp>
        <p:nvSpPr>
          <p:cNvPr id="381"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8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85" name="PlaceHolder 3"/>
          <p:cNvSpPr>
            <a:spLocks noGrp="1"/>
          </p:cNvSpPr>
          <p:nvPr>
            <p:ph type="dt" idx="25"/>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86" name="PlaceHolder 4"/>
          <p:cNvSpPr>
            <a:spLocks noGrp="1"/>
          </p:cNvSpPr>
          <p:nvPr>
            <p:ph type="ftr" idx="26"/>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5"/>
          <p:cNvSpPr>
            <a:spLocks noGrp="1"/>
          </p:cNvSpPr>
          <p:nvPr>
            <p:ph type="sldNum" idx="27"/>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050BF-379F-4985-A323-93602C53CF89}"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4" name="Subtitle 2" descr=""/>
          <p:cNvPicPr/>
          <p:nvPr/>
        </p:nvPicPr>
        <p:blipFill>
          <a:blip r:embed="rId1"/>
          <a:stretch/>
        </p:blipFill>
        <p:spPr>
          <a:xfrm>
            <a:off x="530280" y="2925720"/>
            <a:ext cx="8096040" cy="1890720"/>
          </a:xfrm>
          <a:prstGeom prst="rect">
            <a:avLst/>
          </a:prstGeom>
          <a:ln w="0">
            <a:noFill/>
          </a:ln>
        </p:spPr>
      </p:pic>
      <p:pic>
        <p:nvPicPr>
          <p:cNvPr id="585" name="Rectangle 3" descr=""/>
          <p:cNvPicPr/>
          <p:nvPr/>
        </p:nvPicPr>
        <p:blipFill>
          <a:blip r:embed="rId2"/>
          <a:stretch/>
        </p:blipFill>
        <p:spPr>
          <a:xfrm>
            <a:off x="225360" y="622440"/>
            <a:ext cx="8723520" cy="301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Other Info…</a:t>
            </a:r>
            <a:endParaRPr b="0" lang="en-US" sz="4000" spc="-1" strike="noStrike">
              <a:solidFill>
                <a:srgbClr val="424456"/>
              </a:solidFill>
              <a:latin typeface="Trebuchet MS"/>
            </a:endParaRPr>
          </a:p>
        </p:txBody>
      </p:sp>
      <p:sp>
        <p:nvSpPr>
          <p:cNvPr id="603" name="PlaceHolder 2"/>
          <p:cNvSpPr>
            <a:spLocks noGrp="1"/>
          </p:cNvSpPr>
          <p:nvPr>
            <p:ph/>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Founded The Shyness Clinic in Menlo Park, California, which treats shy behavior in adults and children. Zimbardo's research on shyness resulted in several bestselling books on the topic </a:t>
            </a:r>
            <a:endParaRPr b="0" lang="en-US" sz="2800" spc="-1" strike="noStrike">
              <a:solidFill>
                <a:srgbClr val="000000"/>
              </a:solidFill>
              <a:latin typeface="Georgia"/>
            </a:endParaRPr>
          </a:p>
          <a:p>
            <a:pPr marL="3502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eorgia"/>
              </a:rPr>
              <a:t>Zimbardo is the co-author of an introductory Psychology textbook entitled </a:t>
            </a:r>
            <a:r>
              <a:rPr b="0" i="1" lang="es-ES" sz="2800" spc="-1" strike="noStrike">
                <a:solidFill>
                  <a:srgbClr val="000000"/>
                </a:solidFill>
                <a:latin typeface="Georgia"/>
              </a:rPr>
              <a:t>Psychology and Life</a:t>
            </a:r>
            <a:r>
              <a:rPr b="0" lang="es-ES" sz="2800" spc="-1" strike="noStrike">
                <a:solidFill>
                  <a:srgbClr val="000000"/>
                </a:solidFill>
                <a:latin typeface="Georgia"/>
              </a:rPr>
              <a:t>, which is used in many American undergraduate psychology course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142640"/>
            <a:ext cx="82296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ison Study</a:t>
            </a:r>
            <a:endParaRPr b="0" lang="en-US" sz="4000" spc="-1" strike="noStrike">
              <a:solidFill>
                <a:srgbClr val="424456"/>
              </a:solidFill>
              <a:latin typeface="Trebuchet MS"/>
            </a:endParaRPr>
          </a:p>
        </p:txBody>
      </p:sp>
      <p:pic>
        <p:nvPicPr>
          <p:cNvPr id="605" name="Content Placeholder 5" descr="homepic1.gif"/>
          <p:cNvPicPr/>
          <p:nvPr/>
        </p:nvPicPr>
        <p:blipFill>
          <a:blip r:embed="rId1"/>
          <a:stretch/>
        </p:blipFill>
        <p:spPr>
          <a:xfrm>
            <a:off x="304920" y="2209680"/>
            <a:ext cx="3733560" cy="3427560"/>
          </a:xfrm>
          <a:prstGeom prst="rect">
            <a:avLst/>
          </a:prstGeom>
          <a:ln w="0">
            <a:noFill/>
          </a:ln>
        </p:spPr>
      </p:pic>
      <p:pic>
        <p:nvPicPr>
          <p:cNvPr id="606" name="Picture 2" descr="http://3.bp.blogspot.com/_d3Lep9RjFNg/SiLu9r2UYwI/AAAAAAAAA_s/jbZrL2_K9kE/s320/stanford+prison.jpg"/>
          <p:cNvPicPr/>
          <p:nvPr/>
        </p:nvPicPr>
        <p:blipFill>
          <a:blip r:embed="rId2"/>
          <a:stretch/>
        </p:blipFill>
        <p:spPr>
          <a:xfrm>
            <a:off x="4800600" y="3200400"/>
            <a:ext cx="3886200" cy="3486240"/>
          </a:xfrm>
          <a:prstGeom prst="rect">
            <a:avLst/>
          </a:prstGeom>
          <a:ln w="0">
            <a:noFill/>
          </a:ln>
        </p:spPr>
      </p:pic>
      <p:pic>
        <p:nvPicPr>
          <p:cNvPr id="607" name="Picture 4" descr="http://www.skeptic.com/eskeptic/07-04-04images/Stanford_Prison.jpg"/>
          <p:cNvPicPr/>
          <p:nvPr/>
        </p:nvPicPr>
        <p:blipFill>
          <a:blip r:embed="rId3"/>
          <a:stretch/>
        </p:blipFill>
        <p:spPr>
          <a:xfrm>
            <a:off x="4419720" y="685800"/>
            <a:ext cx="4228920" cy="22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990360"/>
            <a:ext cx="8229600" cy="10666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hilip Zimbardo</a:t>
            </a:r>
            <a:endParaRPr b="0" lang="en-US" sz="4000" spc="-1" strike="noStrike">
              <a:solidFill>
                <a:srgbClr val="424456"/>
              </a:solidFill>
              <a:latin typeface="Trebuchet MS"/>
            </a:endParaRPr>
          </a:p>
        </p:txBody>
      </p:sp>
      <p:pic>
        <p:nvPicPr>
          <p:cNvPr id="609" name="Content Placeholder 3" descr="Zimbardo%20and%20Rat.jpg"/>
          <p:cNvPicPr/>
          <p:nvPr/>
        </p:nvPicPr>
        <p:blipFill>
          <a:blip r:embed="rId1"/>
          <a:stretch/>
        </p:blipFill>
        <p:spPr>
          <a:xfrm>
            <a:off x="380880" y="2133720"/>
            <a:ext cx="2819520" cy="4241520"/>
          </a:xfrm>
          <a:prstGeom prst="rect">
            <a:avLst/>
          </a:prstGeom>
          <a:ln w="0">
            <a:noFill/>
          </a:ln>
        </p:spPr>
      </p:pic>
      <p:pic>
        <p:nvPicPr>
          <p:cNvPr id="610" name="Picture 4" descr="http://imgs.sfgate.com/c/pictures/2007/03/08/mn_psychology.jpg"/>
          <p:cNvPicPr/>
          <p:nvPr/>
        </p:nvPicPr>
        <p:blipFill>
          <a:blip r:embed="rId2"/>
          <a:stretch/>
        </p:blipFill>
        <p:spPr>
          <a:xfrm>
            <a:off x="4724280" y="2209680"/>
            <a:ext cx="3895920" cy="430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ison Study Video</a:t>
            </a:r>
            <a:endParaRPr b="0" lang="en-US" sz="4000" spc="-1" strike="noStrike">
              <a:solidFill>
                <a:srgbClr val="424456"/>
              </a:solidFill>
              <a:latin typeface="Trebuchet MS"/>
            </a:endParaRPr>
          </a:p>
        </p:txBody>
      </p:sp>
      <p:pic>
        <p:nvPicPr>
          <p:cNvPr id="612" name="Stanford Prison Experiment.wmv" descr=""/>
          <p:cNvPicPr/>
          <p:nvPr/>
        </p:nvPicPr>
        <p:blipFill>
          <a:blip r:embed="rId1"/>
          <a:stretch/>
        </p:blipFill>
        <p:spPr>
          <a:xfrm>
            <a:off x="1371600" y="2057400"/>
            <a:ext cx="6248520" cy="4686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12"/>
                    </p:tgtEl>
                  </p:cond>
                </p:stCondLst>
                <p:childTnLst>
                  <p:par>
                    <p:cTn id="3" fill="hold">
                      <p:stCondLst>
                        <p:cond evt="onClick">
                          <p:tgtEl>
                            <p:spTgt spid="612"/>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Bibliography</a:t>
            </a:r>
            <a:endParaRPr b="0" lang="en-US" sz="4000" spc="-1" strike="noStrike">
              <a:solidFill>
                <a:srgbClr val="424456"/>
              </a:solidFill>
              <a:latin typeface="Trebuchet MS"/>
            </a:endParaRPr>
          </a:p>
        </p:txBody>
      </p:sp>
      <p:sp>
        <p:nvSpPr>
          <p:cNvPr id="614"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http://en.wikipedia.org/wiki/Philip_Zimbardo</a:t>
            </a: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http://en.wikipedia.org/wiki/Stanford_prison_study</a:t>
            </a: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http://www.youtube.com/watch?v=rmwSC5fS40w</a:t>
            </a: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http://improbable.com/wp-content/uploads/2006/06/Zimbardo%20and%20Rat.jpg</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ttp://www.lfla.org/aloud/bioPhoto.large/96.jpg</a:t>
            </a:r>
            <a:endParaRPr b="0" lang="en-US" sz="2400" spc="-1" strike="noStrike">
              <a:solidFill>
                <a:srgbClr val="000000"/>
              </a:solidFill>
              <a:latin typeface="Georgia"/>
            </a:endParaRPr>
          </a:p>
          <a:p>
            <a:pPr marL="365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Title 2" descr=""/>
          <p:cNvPicPr/>
          <p:nvPr/>
        </p:nvPicPr>
        <p:blipFill>
          <a:blip r:embed="rId1"/>
          <a:stretch/>
        </p:blipFill>
        <p:spPr>
          <a:xfrm>
            <a:off x="208080" y="1139760"/>
            <a:ext cx="8485200" cy="1079640"/>
          </a:xfrm>
          <a:prstGeom prst="rect">
            <a:avLst/>
          </a:prstGeom>
          <a:ln w="0">
            <a:noFill/>
          </a:ln>
        </p:spPr>
      </p:pic>
      <p:sp>
        <p:nvSpPr>
          <p:cNvPr id="58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 March 23, 1933; in New York</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fessor at Stanford University</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jors in anthropology,  psychology, &amp; Sociology from Brooklyn College in 1954</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completed his M.S. and Ph.D from Yale University</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Title 2" descr=""/>
          <p:cNvPicPr/>
          <p:nvPr/>
        </p:nvPicPr>
        <p:blipFill>
          <a:blip r:embed="rId1"/>
          <a:stretch/>
        </p:blipFill>
        <p:spPr>
          <a:xfrm>
            <a:off x="208080" y="1139760"/>
            <a:ext cx="8485200" cy="1079640"/>
          </a:xfrm>
          <a:prstGeom prst="rect">
            <a:avLst/>
          </a:prstGeom>
          <a:ln w="0">
            <a:noFill/>
          </a:ln>
        </p:spPr>
      </p:pic>
      <p:sp>
        <p:nvSpPr>
          <p:cNvPr id="589"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ught at Yale from 1959 to 1960</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ught psychology at the New York University from 1960 to 1967</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ught at Columbia University from 1967 to 1968</a:t>
            </a: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1080" indent="-25272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oined Stanford in 1968</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ison Study</a:t>
            </a:r>
            <a:endParaRPr b="0" lang="en-US" sz="4000" spc="-1" strike="noStrike">
              <a:solidFill>
                <a:srgbClr val="424456"/>
              </a:solidFill>
              <a:latin typeface="Trebuchet MS"/>
            </a:endParaRPr>
          </a:p>
        </p:txBody>
      </p:sp>
      <p:sp>
        <p:nvSpPr>
          <p:cNvPr id="591" name="PlaceHolder 2"/>
          <p:cNvSpPr>
            <a:spLocks noGrp="1"/>
          </p:cNvSpPr>
          <p:nvPr>
            <p:ph/>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Georgia"/>
              </a:rPr>
              <a:t>In the year 1971, Zimbardo accepted a tenured position as professor of psychology at Stanford University. There he conducted the Stanford prison study, in which 24 normal college students were randomly assigned to be "prisoners" or "guards" in a mock prison located in the basement of the psychology building at Stanfor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a:t>
            </a:r>
            <a:endParaRPr b="0" lang="en-US" sz="4000" spc="-1" strike="noStrike">
              <a:solidFill>
                <a:srgbClr val="424456"/>
              </a:solidFill>
              <a:latin typeface="Trebuchet MS"/>
            </a:endParaRPr>
          </a:p>
        </p:txBody>
      </p:sp>
      <p:sp>
        <p:nvSpPr>
          <p:cNvPr id="593" name="PlaceHolder 2"/>
          <p:cNvSpPr>
            <a:spLocks noGrp="1"/>
          </p:cNvSpPr>
          <p:nvPr>
            <p:ph/>
          </p:nvPr>
        </p:nvSpPr>
        <p:spPr>
          <a:xfrm>
            <a:off x="457200" y="2249640"/>
            <a:ext cx="8229600" cy="4324320"/>
          </a:xfrm>
          <a:prstGeom prst="rect">
            <a:avLst/>
          </a:prstGeom>
          <a:noFill/>
          <a:ln w="0">
            <a:noFill/>
          </a:ln>
        </p:spPr>
        <p:txBody>
          <a:bodyPr anchor="t">
            <a:normAutofit fontScale="95000"/>
          </a:bodyPr>
          <a:p>
            <a:pPr marL="346680" indent="-2426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eorgia"/>
              </a:rPr>
              <a:t>The students quickly began acting out their roles, with "guards" becoming sadistic and "prisoners" showing extreme passivity and depression. Prisoners and guards rapidly adapted to their roles, stepping beyond the boundaries of what had been predicted and leading to dangerous and psychologically damaging situations. One-third of the guards were judged to have exhibited "genuine" sadistic tendencies, while many prisoners were emotionally traumatized and five had to be removed from the study early.</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a:t>
            </a:r>
            <a:endParaRPr b="0" lang="en-US" sz="4000" spc="-1" strike="noStrike">
              <a:solidFill>
                <a:srgbClr val="424456"/>
              </a:solidFill>
              <a:latin typeface="Trebuchet MS"/>
            </a:endParaRPr>
          </a:p>
        </p:txBody>
      </p:sp>
      <p:sp>
        <p:nvSpPr>
          <p:cNvPr id="595" name="PlaceHolder 2"/>
          <p:cNvSpPr>
            <a:spLocks noGrp="1"/>
          </p:cNvSpPr>
          <p:nvPr>
            <p:ph/>
          </p:nvPr>
        </p:nvSpPr>
        <p:spPr>
          <a:xfrm>
            <a:off x="457200" y="2249280"/>
            <a:ext cx="8229600" cy="4608360"/>
          </a:xfrm>
          <a:prstGeom prst="rect">
            <a:avLst/>
          </a:prstGeom>
          <a:noFill/>
          <a:ln w="0">
            <a:noFill/>
          </a:ln>
        </p:spPr>
        <p:txBody>
          <a:bodyPr anchor="t">
            <a:normAutofit fontScale="95000"/>
          </a:bodyPr>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The Stanford experiment ended on August 20, 1971, only six days after it began instead of the fourteen it was supposed to have lasted. The experiment's result has been argued to demonstrate the impressionability and obedience of people when provided with a legitimizing ideology and social and institutional support. It is also used to illustrate cognitive dissonance theory and the power of authority.</a:t>
            </a:r>
            <a:endParaRPr b="0" lang="en-US" sz="2400" spc="-1" strike="noStrike">
              <a:solidFill>
                <a:srgbClr val="000000"/>
              </a:solidFill>
              <a:latin typeface="Georgia"/>
            </a:endParaRPr>
          </a:p>
          <a:p>
            <a:pPr marL="346680" indent="-24264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In psychology, the results of the experiment are said to support situational attribution of behaviour rather than dispositional attribution. In this way, it is compatible with the results of the also-famous Milgram experiment, in which ordinary people fulfilled orders to administer what appeared to be damaging electric shocks to a confederate of the experimente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a:t>
            </a:r>
            <a:endParaRPr b="0" lang="en-US" sz="4000" spc="-1" strike="noStrike">
              <a:solidFill>
                <a:srgbClr val="424456"/>
              </a:solidFill>
              <a:latin typeface="Trebuchet MS"/>
            </a:endParaRPr>
          </a:p>
        </p:txBody>
      </p:sp>
      <p:sp>
        <p:nvSpPr>
          <p:cNvPr id="597"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Shortly after the study had been completed, there were bloody revolts at both the San Quentin and Attica prison facilities, and Zimbardo reported his findings on the experiment to the U.S. House Committee on the Judiciary.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riticism</a:t>
            </a:r>
            <a:endParaRPr b="0" lang="en-US" sz="4000" spc="-1" strike="noStrike">
              <a:solidFill>
                <a:srgbClr val="424456"/>
              </a:solidFill>
              <a:latin typeface="Trebuchet MS"/>
            </a:endParaRPr>
          </a:p>
        </p:txBody>
      </p:sp>
      <p:sp>
        <p:nvSpPr>
          <p:cNvPr id="599"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The experiment was widely criticized as being unethical and unscientific. Current ethical standards of psychology would not permit such a study to be conducted today. The study would violate the Ethics Code of the American Psychological Association, the Canadian Code of Conduct for Research Involving Humans, and the Belmont Report. Critics including Erich Fromm challenged how readily the results of the experiment could be generalized. Fromm specifically writes about how the personality of an individual does in fact affect behavior when imprisoned. This runs counter to the study's conclusion that the prison situation itself controls the individual's behavior.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a:t>
            </a:r>
            <a:endParaRPr b="0" lang="en-US" sz="4000" spc="-1" strike="noStrike">
              <a:solidFill>
                <a:srgbClr val="424456"/>
              </a:solidFill>
              <a:latin typeface="Trebuchet MS"/>
            </a:endParaRPr>
          </a:p>
        </p:txBody>
      </p:sp>
      <p:sp>
        <p:nvSpPr>
          <p:cNvPr id="601"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eorgia"/>
              </a:rPr>
              <a:t>Because it was a field experiment, it was impossible to keep traditional scientific controls. Dr Zimbardo was not merely a neutral observer, but influenced the direction of the experiment as its "superintendent". Conclusions and observations drawn by the experimenters were largely subjective and anecdotal, and the experiment would be difficult for other researchers to reproduc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15:38:46Z</dcterms:created>
  <dc:creator>Student</dc:creator>
  <dc:description/>
  <dc:language>en-US</dc:language>
  <cp:lastModifiedBy>Comp13</cp:lastModifiedBy>
  <dcterms:modified xsi:type="dcterms:W3CDTF">2009-10-07T13:24:23Z</dcterms:modified>
  <cp:revision>7</cp:revision>
  <dc:subject/>
  <dc:title>Slide 1</dc:title>
</cp:coreProperties>
</file>